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99B-0CAE-47B9-B348-97A50484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C72-B2E1-4A62-964F-42E0F68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63D-1BFC-46F6-B043-4D8C8488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670-B0CE-49EE-A606-34306C4B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4C5-D967-49E8-AAE5-DB1752A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D44-6866-4770-98F5-F391814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CE0-FD4C-4951-8B69-61B7D3E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779-1669-4958-BA77-2E2DFAFC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2FD-8FDB-4D27-BB0D-2926DD97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C0F-068E-485E-B194-A19369D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33F-1717-42C0-9A5F-56458325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49E-3A77-4CDD-8DBE-75AC374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F1A-5973-47CB-AC30-3E9E3D4142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720" y="2209680"/>
            <a:ext cx="661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lternative Formu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39621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10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79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655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9644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693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05560" cy="541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289548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077320" y="4648320"/>
            <a:ext cx="76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44Z</dcterms:modified>
  <cp:revision>207</cp:revision>
  <dc:subject/>
  <dc:title>Slide 1</dc:title>
</cp:coreProperties>
</file>